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5E8-5175-49F1-A94F-AA709F62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B63-78B2-40A9-8790-A38FF25E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A04-81F9-4F94-A225-398905C3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075-FAD7-4B40-8FA7-90F8FB9A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B0C-D846-4E74-AE8D-CC6DDE0C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1B9-75F6-4DDB-9690-887CF4CD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061-296C-410F-AEA0-0F5B4944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4A6-5F4D-4F43-9678-9C713D70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178-9AE0-462D-8661-D4AFE181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2F5-F3D8-4C44-AA3A-C88B20B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061-5A5A-4735-8302-EEE25CE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C31-C179-44A3-B93E-D84F339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FE18-75B9-43B8-88CA-6D8BA340E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gulfoilphotos.com/wp-content/uploads/2010/07/Bird-Gulf-Oil-Spill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Engravers MT"/>
              </a:rPr>
              <a:t>Gulf of Mexico Oil Sp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11444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Connection Overview Read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ird trapped in oil spill"/>
          <p:cNvPicPr/>
          <p:nvPr/>
        </p:nvPicPr>
        <p:blipFill>
          <a:blip r:embed="rId1"/>
          <a:stretch/>
        </p:blipFill>
        <p:spPr>
          <a:xfrm>
            <a:off x="0" y="0"/>
            <a:ext cx="3429000" cy="2130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untitled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11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White bird in oil spi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745160"/>
            <a:ext cx="3200400" cy="2112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124080" y="468648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429000" y="0"/>
            <a:ext cx="2895480" cy="2108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4716360"/>
            <a:ext cx="3124080" cy="214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15920" y="2109960"/>
            <a:ext cx="7096320" cy="2020680"/>
          </a:xfrm>
          <a:custGeom>
            <a:avLst/>
            <a:gdLst/>
            <a:ahLst/>
            <a:rect l="l" t="t" r="r" b="b"/>
            <a:pathLst>
              <a:path w="4470" h="1273">
                <a:moveTo>
                  <a:pt x="274" y="99"/>
                </a:moveTo>
                <a:cubicBezTo>
                  <a:pt x="199" y="109"/>
                  <a:pt x="170" y="130"/>
                  <a:pt x="105" y="161"/>
                </a:cubicBezTo>
                <a:cubicBezTo>
                  <a:pt x="95" y="176"/>
                  <a:pt x="84" y="192"/>
                  <a:pt x="74" y="207"/>
                </a:cubicBezTo>
                <a:cubicBezTo>
                  <a:pt x="65" y="220"/>
                  <a:pt x="70" y="238"/>
                  <a:pt x="67" y="253"/>
                </a:cubicBezTo>
                <a:cubicBezTo>
                  <a:pt x="61" y="279"/>
                  <a:pt x="46" y="297"/>
                  <a:pt x="28" y="315"/>
                </a:cubicBezTo>
                <a:cubicBezTo>
                  <a:pt x="22" y="331"/>
                  <a:pt x="6" y="344"/>
                  <a:pt x="5" y="361"/>
                </a:cubicBezTo>
                <a:cubicBezTo>
                  <a:pt x="0" y="421"/>
                  <a:pt x="30" y="448"/>
                  <a:pt x="82" y="460"/>
                </a:cubicBezTo>
                <a:cubicBezTo>
                  <a:pt x="162" y="455"/>
                  <a:pt x="326" y="418"/>
                  <a:pt x="381" y="476"/>
                </a:cubicBezTo>
                <a:cubicBezTo>
                  <a:pt x="385" y="499"/>
                  <a:pt x="395" y="521"/>
                  <a:pt x="397" y="545"/>
                </a:cubicBezTo>
                <a:cubicBezTo>
                  <a:pt x="406" y="668"/>
                  <a:pt x="363" y="713"/>
                  <a:pt x="443" y="768"/>
                </a:cubicBezTo>
                <a:cubicBezTo>
                  <a:pt x="542" y="762"/>
                  <a:pt x="612" y="753"/>
                  <a:pt x="704" y="729"/>
                </a:cubicBezTo>
                <a:cubicBezTo>
                  <a:pt x="722" y="732"/>
                  <a:pt x="742" y="729"/>
                  <a:pt x="758" y="737"/>
                </a:cubicBezTo>
                <a:cubicBezTo>
                  <a:pt x="765" y="741"/>
                  <a:pt x="765" y="752"/>
                  <a:pt x="765" y="760"/>
                </a:cubicBezTo>
                <a:cubicBezTo>
                  <a:pt x="771" y="850"/>
                  <a:pt x="743" y="1002"/>
                  <a:pt x="819" y="1083"/>
                </a:cubicBezTo>
                <a:cubicBezTo>
                  <a:pt x="998" y="1071"/>
                  <a:pt x="893" y="1081"/>
                  <a:pt x="988" y="1052"/>
                </a:cubicBezTo>
                <a:cubicBezTo>
                  <a:pt x="1025" y="946"/>
                  <a:pt x="987" y="921"/>
                  <a:pt x="942" y="852"/>
                </a:cubicBezTo>
                <a:cubicBezTo>
                  <a:pt x="960" y="800"/>
                  <a:pt x="1004" y="824"/>
                  <a:pt x="1057" y="829"/>
                </a:cubicBezTo>
                <a:cubicBezTo>
                  <a:pt x="1082" y="852"/>
                  <a:pt x="1102" y="881"/>
                  <a:pt x="1111" y="914"/>
                </a:cubicBezTo>
                <a:cubicBezTo>
                  <a:pt x="1124" y="965"/>
                  <a:pt x="1124" y="1010"/>
                  <a:pt x="1180" y="1029"/>
                </a:cubicBezTo>
                <a:cubicBezTo>
                  <a:pt x="1216" y="1028"/>
                  <a:pt x="1350" y="1049"/>
                  <a:pt x="1411" y="1006"/>
                </a:cubicBezTo>
                <a:cubicBezTo>
                  <a:pt x="1442" y="984"/>
                  <a:pt x="1470" y="962"/>
                  <a:pt x="1503" y="944"/>
                </a:cubicBezTo>
                <a:cubicBezTo>
                  <a:pt x="1519" y="935"/>
                  <a:pt x="1549" y="914"/>
                  <a:pt x="1549" y="914"/>
                </a:cubicBezTo>
                <a:cubicBezTo>
                  <a:pt x="1564" y="916"/>
                  <a:pt x="1583" y="911"/>
                  <a:pt x="1595" y="921"/>
                </a:cubicBezTo>
                <a:cubicBezTo>
                  <a:pt x="1605" y="930"/>
                  <a:pt x="1598" y="948"/>
                  <a:pt x="1603" y="960"/>
                </a:cubicBezTo>
                <a:cubicBezTo>
                  <a:pt x="1610" y="980"/>
                  <a:pt x="1623" y="989"/>
                  <a:pt x="1641" y="998"/>
                </a:cubicBezTo>
                <a:cubicBezTo>
                  <a:pt x="1683" y="1019"/>
                  <a:pt x="1774" y="1012"/>
                  <a:pt x="1795" y="1013"/>
                </a:cubicBezTo>
                <a:cubicBezTo>
                  <a:pt x="1799" y="1121"/>
                  <a:pt x="1767" y="1200"/>
                  <a:pt x="1871" y="1236"/>
                </a:cubicBezTo>
                <a:cubicBezTo>
                  <a:pt x="1910" y="1273"/>
                  <a:pt x="1964" y="1237"/>
                  <a:pt x="1994" y="1205"/>
                </a:cubicBezTo>
                <a:cubicBezTo>
                  <a:pt x="1989" y="1162"/>
                  <a:pt x="1984" y="1130"/>
                  <a:pt x="1971" y="1090"/>
                </a:cubicBezTo>
                <a:cubicBezTo>
                  <a:pt x="1970" y="1087"/>
                  <a:pt x="1958" y="1046"/>
                  <a:pt x="1956" y="1044"/>
                </a:cubicBezTo>
                <a:cubicBezTo>
                  <a:pt x="1950" y="1038"/>
                  <a:pt x="1941" y="1039"/>
                  <a:pt x="1933" y="1036"/>
                </a:cubicBezTo>
                <a:cubicBezTo>
                  <a:pt x="1896" y="929"/>
                  <a:pt x="1936" y="967"/>
                  <a:pt x="2086" y="960"/>
                </a:cubicBezTo>
                <a:cubicBezTo>
                  <a:pt x="2105" y="941"/>
                  <a:pt x="2122" y="930"/>
                  <a:pt x="2148" y="921"/>
                </a:cubicBezTo>
                <a:cubicBezTo>
                  <a:pt x="2162" y="931"/>
                  <a:pt x="2185" y="945"/>
                  <a:pt x="2194" y="960"/>
                </a:cubicBezTo>
                <a:cubicBezTo>
                  <a:pt x="2220" y="1005"/>
                  <a:pt x="2189" y="992"/>
                  <a:pt x="2248" y="1021"/>
                </a:cubicBezTo>
                <a:cubicBezTo>
                  <a:pt x="2297" y="1015"/>
                  <a:pt x="2318" y="1016"/>
                  <a:pt x="2355" y="990"/>
                </a:cubicBezTo>
                <a:cubicBezTo>
                  <a:pt x="2381" y="1016"/>
                  <a:pt x="2388" y="1062"/>
                  <a:pt x="2394" y="1098"/>
                </a:cubicBezTo>
                <a:cubicBezTo>
                  <a:pt x="2397" y="1114"/>
                  <a:pt x="2395" y="1155"/>
                  <a:pt x="2417" y="1167"/>
                </a:cubicBezTo>
                <a:cubicBezTo>
                  <a:pt x="2435" y="1177"/>
                  <a:pt x="2508" y="1192"/>
                  <a:pt x="2532" y="1198"/>
                </a:cubicBezTo>
                <a:cubicBezTo>
                  <a:pt x="2580" y="1190"/>
                  <a:pt x="2727" y="1178"/>
                  <a:pt x="2639" y="1090"/>
                </a:cubicBezTo>
                <a:cubicBezTo>
                  <a:pt x="2637" y="1082"/>
                  <a:pt x="2631" y="1075"/>
                  <a:pt x="2632" y="1067"/>
                </a:cubicBezTo>
                <a:cubicBezTo>
                  <a:pt x="2635" y="1052"/>
                  <a:pt x="2662" y="1030"/>
                  <a:pt x="2670" y="1021"/>
                </a:cubicBezTo>
                <a:cubicBezTo>
                  <a:pt x="2691" y="995"/>
                  <a:pt x="2699" y="986"/>
                  <a:pt x="2732" y="975"/>
                </a:cubicBezTo>
                <a:cubicBezTo>
                  <a:pt x="2803" y="994"/>
                  <a:pt x="2727" y="967"/>
                  <a:pt x="2778" y="1006"/>
                </a:cubicBezTo>
                <a:cubicBezTo>
                  <a:pt x="2794" y="1018"/>
                  <a:pt x="2835" y="1027"/>
                  <a:pt x="2854" y="1036"/>
                </a:cubicBezTo>
                <a:cubicBezTo>
                  <a:pt x="2922" y="1015"/>
                  <a:pt x="2845" y="978"/>
                  <a:pt x="2908" y="937"/>
                </a:cubicBezTo>
                <a:cubicBezTo>
                  <a:pt x="2931" y="939"/>
                  <a:pt x="2955" y="938"/>
                  <a:pt x="2977" y="944"/>
                </a:cubicBezTo>
                <a:cubicBezTo>
                  <a:pt x="2992" y="948"/>
                  <a:pt x="3002" y="961"/>
                  <a:pt x="3016" y="967"/>
                </a:cubicBezTo>
                <a:cubicBezTo>
                  <a:pt x="3025" y="971"/>
                  <a:pt x="3036" y="972"/>
                  <a:pt x="3046" y="975"/>
                </a:cubicBezTo>
                <a:cubicBezTo>
                  <a:pt x="3071" y="991"/>
                  <a:pt x="3131" y="1006"/>
                  <a:pt x="3131" y="1006"/>
                </a:cubicBezTo>
                <a:cubicBezTo>
                  <a:pt x="3215" y="1003"/>
                  <a:pt x="3301" y="1010"/>
                  <a:pt x="3384" y="998"/>
                </a:cubicBezTo>
                <a:cubicBezTo>
                  <a:pt x="3395" y="996"/>
                  <a:pt x="3388" y="977"/>
                  <a:pt x="3392" y="967"/>
                </a:cubicBezTo>
                <a:cubicBezTo>
                  <a:pt x="3404" y="940"/>
                  <a:pt x="3405" y="945"/>
                  <a:pt x="3430" y="937"/>
                </a:cubicBezTo>
                <a:cubicBezTo>
                  <a:pt x="3518" y="943"/>
                  <a:pt x="3575" y="952"/>
                  <a:pt x="3661" y="944"/>
                </a:cubicBezTo>
                <a:cubicBezTo>
                  <a:pt x="3666" y="936"/>
                  <a:pt x="3670" y="927"/>
                  <a:pt x="3676" y="921"/>
                </a:cubicBezTo>
                <a:cubicBezTo>
                  <a:pt x="3682" y="915"/>
                  <a:pt x="3696" y="915"/>
                  <a:pt x="3699" y="906"/>
                </a:cubicBezTo>
                <a:cubicBezTo>
                  <a:pt x="3700" y="904"/>
                  <a:pt x="3688" y="856"/>
                  <a:pt x="3684" y="852"/>
                </a:cubicBezTo>
                <a:cubicBezTo>
                  <a:pt x="3678" y="846"/>
                  <a:pt x="3669" y="847"/>
                  <a:pt x="3661" y="844"/>
                </a:cubicBezTo>
                <a:cubicBezTo>
                  <a:pt x="3625" y="790"/>
                  <a:pt x="3645" y="808"/>
                  <a:pt x="3607" y="783"/>
                </a:cubicBezTo>
                <a:cubicBezTo>
                  <a:pt x="3606" y="780"/>
                  <a:pt x="3592" y="741"/>
                  <a:pt x="3592" y="737"/>
                </a:cubicBezTo>
                <a:cubicBezTo>
                  <a:pt x="3592" y="674"/>
                  <a:pt x="3679" y="675"/>
                  <a:pt x="3722" y="660"/>
                </a:cubicBezTo>
                <a:cubicBezTo>
                  <a:pt x="3775" y="611"/>
                  <a:pt x="3851" y="663"/>
                  <a:pt x="3907" y="683"/>
                </a:cubicBezTo>
                <a:cubicBezTo>
                  <a:pt x="3926" y="713"/>
                  <a:pt x="3944" y="721"/>
                  <a:pt x="3976" y="737"/>
                </a:cubicBezTo>
                <a:cubicBezTo>
                  <a:pt x="4124" y="731"/>
                  <a:pt x="4132" y="739"/>
                  <a:pt x="4229" y="714"/>
                </a:cubicBezTo>
                <a:cubicBezTo>
                  <a:pt x="4239" y="706"/>
                  <a:pt x="4256" y="703"/>
                  <a:pt x="4260" y="691"/>
                </a:cubicBezTo>
                <a:cubicBezTo>
                  <a:pt x="4278" y="631"/>
                  <a:pt x="4223" y="594"/>
                  <a:pt x="4191" y="560"/>
                </a:cubicBezTo>
                <a:cubicBezTo>
                  <a:pt x="4213" y="489"/>
                  <a:pt x="4267" y="505"/>
                  <a:pt x="4337" y="499"/>
                </a:cubicBezTo>
                <a:cubicBezTo>
                  <a:pt x="4361" y="481"/>
                  <a:pt x="4381" y="461"/>
                  <a:pt x="4406" y="445"/>
                </a:cubicBezTo>
                <a:cubicBezTo>
                  <a:pt x="4450" y="375"/>
                  <a:pt x="4438" y="407"/>
                  <a:pt x="4452" y="353"/>
                </a:cubicBezTo>
                <a:cubicBezTo>
                  <a:pt x="4442" y="212"/>
                  <a:pt x="4470" y="222"/>
                  <a:pt x="4344" y="207"/>
                </a:cubicBezTo>
                <a:cubicBezTo>
                  <a:pt x="4328" y="174"/>
                  <a:pt x="4314" y="158"/>
                  <a:pt x="4283" y="138"/>
                </a:cubicBezTo>
                <a:cubicBezTo>
                  <a:pt x="4266" y="90"/>
                  <a:pt x="4215" y="60"/>
                  <a:pt x="4168" y="46"/>
                </a:cubicBezTo>
                <a:cubicBezTo>
                  <a:pt x="4082" y="50"/>
                  <a:pt x="4022" y="52"/>
                  <a:pt x="3945" y="76"/>
                </a:cubicBezTo>
                <a:cubicBezTo>
                  <a:pt x="3879" y="122"/>
                  <a:pt x="3815" y="96"/>
                  <a:pt x="3730" y="92"/>
                </a:cubicBezTo>
                <a:cubicBezTo>
                  <a:pt x="3583" y="30"/>
                  <a:pt x="3568" y="71"/>
                  <a:pt x="3315" y="76"/>
                </a:cubicBezTo>
                <a:cubicBezTo>
                  <a:pt x="3256" y="91"/>
                  <a:pt x="3231" y="119"/>
                  <a:pt x="3177" y="138"/>
                </a:cubicBezTo>
                <a:cubicBezTo>
                  <a:pt x="3114" y="96"/>
                  <a:pt x="3085" y="85"/>
                  <a:pt x="3016" y="61"/>
                </a:cubicBezTo>
                <a:cubicBezTo>
                  <a:pt x="2806" y="66"/>
                  <a:pt x="2667" y="77"/>
                  <a:pt x="2470" y="69"/>
                </a:cubicBezTo>
                <a:cubicBezTo>
                  <a:pt x="2437" y="33"/>
                  <a:pt x="2401" y="14"/>
                  <a:pt x="2355" y="0"/>
                </a:cubicBezTo>
                <a:cubicBezTo>
                  <a:pt x="2322" y="2"/>
                  <a:pt x="2288" y="3"/>
                  <a:pt x="2255" y="7"/>
                </a:cubicBezTo>
                <a:cubicBezTo>
                  <a:pt x="2216" y="12"/>
                  <a:pt x="2245" y="15"/>
                  <a:pt x="2217" y="38"/>
                </a:cubicBezTo>
                <a:cubicBezTo>
                  <a:pt x="2203" y="50"/>
                  <a:pt x="2136" y="70"/>
                  <a:pt x="2117" y="76"/>
                </a:cubicBezTo>
                <a:cubicBezTo>
                  <a:pt x="2006" y="68"/>
                  <a:pt x="1898" y="75"/>
                  <a:pt x="1787" y="69"/>
                </a:cubicBezTo>
                <a:cubicBezTo>
                  <a:pt x="1718" y="45"/>
                  <a:pt x="1704" y="71"/>
                  <a:pt x="1656" y="99"/>
                </a:cubicBezTo>
                <a:cubicBezTo>
                  <a:pt x="1632" y="113"/>
                  <a:pt x="1599" y="114"/>
                  <a:pt x="1572" y="123"/>
                </a:cubicBezTo>
                <a:cubicBezTo>
                  <a:pt x="1538" y="155"/>
                  <a:pt x="1523" y="145"/>
                  <a:pt x="1472" y="138"/>
                </a:cubicBezTo>
                <a:cubicBezTo>
                  <a:pt x="1449" y="103"/>
                  <a:pt x="1434" y="97"/>
                  <a:pt x="1395" y="84"/>
                </a:cubicBezTo>
                <a:cubicBezTo>
                  <a:pt x="1251" y="95"/>
                  <a:pt x="1291" y="109"/>
                  <a:pt x="1134" y="99"/>
                </a:cubicBezTo>
                <a:cubicBezTo>
                  <a:pt x="1075" y="81"/>
                  <a:pt x="1031" y="41"/>
                  <a:pt x="973" y="23"/>
                </a:cubicBezTo>
                <a:cubicBezTo>
                  <a:pt x="822" y="34"/>
                  <a:pt x="825" y="37"/>
                  <a:pt x="635" y="30"/>
                </a:cubicBezTo>
                <a:cubicBezTo>
                  <a:pt x="552" y="5"/>
                  <a:pt x="463" y="35"/>
                  <a:pt x="381" y="7"/>
                </a:cubicBezTo>
                <a:cubicBezTo>
                  <a:pt x="355" y="16"/>
                  <a:pt x="339" y="26"/>
                  <a:pt x="320" y="46"/>
                </a:cubicBezTo>
                <a:cubicBezTo>
                  <a:pt x="314" y="83"/>
                  <a:pt x="317" y="122"/>
                  <a:pt x="274" y="99"/>
                </a:cubicBezTo>
                <a:close/>
              </a:path>
            </a:pathLst>
          </a:custGeom>
          <a:solidFill>
            <a:srgbClr val="6633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Connection Overview 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74920" cy="4373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1760" y="1599480"/>
            <a:ext cx="50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Used for frontloading &amp; guiding 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9807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tudents make connections, form questions, &amp; determine significance of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86200" y="2438280"/>
            <a:ext cx="259092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9240" y="3351960"/>
            <a:ext cx="45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are the main ideas in the read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800600" y="3123720"/>
            <a:ext cx="1676520" cy="304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160" y="28188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at’s familiar about the topic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8160" y="3885480"/>
            <a:ext cx="47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questions do I have about the topic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440" y="441900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are the categories of inf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8520" y="49521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How do I learn new vocab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4572000"/>
            <a:ext cx="24382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5105520"/>
            <a:ext cx="2971800" cy="304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52880" y="3885840"/>
            <a:ext cx="1828800" cy="228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200" y="571428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an be used in any subject, not just scienc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S.C.O.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8084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binged on BP oil but didn't grow” article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ience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r partne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nec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ick 1 vocab word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7:29:12Z</dcterms:created>
  <dc:creator>Megan Esgar</dc:creator>
  <dc:description/>
  <dc:language>en-US</dc:language>
  <cp:lastModifiedBy>Megan Esgar</cp:lastModifiedBy>
  <dcterms:modified xsi:type="dcterms:W3CDTF">2011-08-22T18:59:47Z</dcterms:modified>
  <cp:revision>3</cp:revision>
  <dc:subject/>
  <dc:title>Slide 1</dc:title>
</cp:coreProperties>
</file>